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F270-D7B9-4245-8289-E2AA59098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72E4-4734-41CA-86D9-A827AC53B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69CC-0C1F-4FEA-8637-82FC03ACE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9714-6203-4202-9F8A-2C9A111C4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C990C-580E-4A37-8323-B1074BCE1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6E426-EC5D-4E0C-A006-CBC8D700E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DCB38-0790-49FF-925F-104B3C5BA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A1F2B-F49F-4DBA-B291-3B37FB6C1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28C3A-60F0-488C-A2FE-452E0D3DE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99493-04B2-4D2F-A96B-4C60A9526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843E7-1C83-4DF7-8A26-29F927D6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EF75-7A1E-4342-AB97-7C702D6A6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F86D4-C8B7-45CD-BDDF-A9430B13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A3A7E-90F5-47AF-9F37-CDC412D6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41B8B-FFC2-427B-B704-486A48213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A6B83-EA75-4C08-A879-9DBCD69F3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0EAE6-53BB-4B2F-A9F5-6038FF11D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D144-F81E-4494-B441-AA366A83A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C8FB-9ED4-4CC0-83CA-2A2365FF9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F3CA-DE9E-4519-B167-FEA8DF84D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53CC-D472-4B9E-81EA-20DD33F3C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0931-F52D-4E72-AEDC-2403BBD5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E086-FA80-4201-9379-CF7FF268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4A44-4422-49AC-B81F-31B1F792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23F4F-0916-43E4-9300-07503B4CF2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35FEC-4E39-4B66-BD2D-6B0ACB2C4D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3: Real Zeroes of Polynomials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bruary 13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 polynom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the division algorithm, remainder theorem, and factor theor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 higher degree polynom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ze polynomials with multiple zer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rational z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polynomial eq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vide polynom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 by a monom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6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7)/(2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ing by binomials or hig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4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x+6)/(x+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derstand the division algorithm, remainder theorem, and factor theor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sion algorith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 = d(x) * q(x) + r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inder theor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f(x) is divided by x-k, the remainder is f(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 theor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 has x-k as a factor if and only if f(k)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ys to factor polynomials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ically– see where the zeros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synthetic algebra– if you know one zero (k), factor out x-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 out x if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you know the z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 a(x-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(x-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…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 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25x+7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eros 11/2 and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assig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288-29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-22 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6, 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3T16:41:54Z</dcterms:created>
  <dc:creator>nuhs</dc:creator>
  <dc:description/>
  <dc:language>en-US</dc:language>
  <cp:lastModifiedBy>nuhs</cp:lastModifiedBy>
  <dcterms:modified xsi:type="dcterms:W3CDTF">2008-02-13T21:31:37Z</dcterms:modified>
  <cp:revision>3</cp:revision>
  <dc:subject/>
  <dc:title>4.4</dc:title>
</cp:coreProperties>
</file>